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75D4FED-13AE-434D-8E9E-7DD3F9CA9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7CDB80A-19DA-4753-A02B-F5D10CE82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5480" y="6426000"/>
            <a:ext cx="5185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292A2-9AAC-4F08-ACF8-6711BFFC7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621F6-4F92-407B-BBA1-DCA748519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523B9-1672-4B10-9CAA-1C6FD8EC0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A4F1C-8051-4C40-BF11-33F151C34F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B035F-BCB0-4030-BA1B-D680ED7A6D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55E29-7A6B-4787-8AFB-2CCB339F6A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783B8-94F0-4B7B-B1FB-6CD0A4407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D9775-559B-47E6-9AD1-85E19395A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2BB96-5D0D-4BD7-A206-838558171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2EFE1-1AC7-41A3-929A-52672022D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201E-1F52-40A6-AF25-477775710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AEE1D-0FC3-417C-9FF9-CEC1070841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3A61278A-00DB-4DD4-AFB3-09CE9DF7437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4316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366552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20934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comm/projects/index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amartinez@ercot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0" y="2520000"/>
            <a:ext cx="66326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 Projects Overview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ority List (PPL)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298600" y="3817440"/>
            <a:ext cx="62359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am D. Martine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gr, Market Ops Divisional Projects Organiz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MS Me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10, 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74280" y="131760"/>
            <a:ext cx="7448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Current RO Project Priority List – Top 20 *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3440" y="893880"/>
          <a:ext cx="8863200" cy="5038560"/>
        </p:xfrm>
        <a:graphic>
          <a:graphicData uri="http://schemas.openxmlformats.org/drawingml/2006/table">
            <a:tbl>
              <a:tblPr/>
              <a:tblGrid>
                <a:gridCol w="614520"/>
                <a:gridCol w="712800"/>
                <a:gridCol w="600120"/>
                <a:gridCol w="2792160"/>
                <a:gridCol w="974880"/>
                <a:gridCol w="925560"/>
                <a:gridCol w="701640"/>
                <a:gridCol w="547560"/>
                <a:gridCol w="9939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g Are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N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 Prior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 Ran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 Budget Ran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hancement to FasTrak Too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 C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ce Oriented Architecture (SeeBeyond Replacemen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 C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point Services - Phase I  (SeeBeyond Replacemen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_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 C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ail Business Processes (SeeBeyond Replacemen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_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Exec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1M-$3M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 C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point Services - Phase II (SeeBeyond Replacemen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_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-$500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 C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X SET 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00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 C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 SIR Enhanc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Outage Evaluation and Resolution, Ph. I &amp; 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6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-$3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formance Measures Report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7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s and Conditions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8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04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 Cut Line </a:t>
                      </a:r>
                      <a:r>
                        <a:rPr b="1" i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Initial placement based on consolidated ERCOT PPL; RO allocation = $6.75M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 C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A Extend Footpri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10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500K-$1M</a:t>
                      </a: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RO C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Enhance Digital Certificate Progr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60013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X-fer to 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04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 Capability Range </a:t>
                      </a:r>
                      <a:r>
                        <a:rPr b="1" i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Line placement varies based on Forecasted Spend for Portfol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 C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I ID Account Table Spl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15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 C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.com Secured Are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77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ti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 C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Siebel Tran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59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ti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 C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TCH Tran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60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ti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 C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EAI Tran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61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 C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S Transition to ED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88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R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Calculation of Losses for Settl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60068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X-fer to M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32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&lt;$1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s Customer Tran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38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nit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-$3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26360" y="5962680"/>
            <a:ext cx="8899560" cy="6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2680" indent="-1126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s:  2 Closed; 4 Initiation; 2 Planning; 4 Execution; 6 Not Started; 2 Transfer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tes planned or recent change in Phase and/or Budget Range; specifics in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85000"/>
              </a:lnSpc>
              <a:spcBef>
                <a:spcPts val="337"/>
              </a:spcBef>
              <a:buClr>
                <a:srgbClr val="008080"/>
              </a:buClr>
              <a:buSzPct val="16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LEASE NOTE: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PL posted to ERCOT.com as of 5/10/06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9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http://www.ercot.com/services/comm/projects/index.html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may not include recent updates reflected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3280" y="6240600"/>
            <a:ext cx="716040" cy="17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08CB1-9A64-4ED3-8640-EE3042503EBC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4080" y="131760"/>
            <a:ext cx="8052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2007 PPL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DRAFT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ERCOT Analysis – Top 20 *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63440" y="893880"/>
          <a:ext cx="8863200" cy="5575320"/>
        </p:xfrm>
        <a:graphic>
          <a:graphicData uri="http://schemas.openxmlformats.org/drawingml/2006/table">
            <a:tbl>
              <a:tblPr/>
              <a:tblGrid>
                <a:gridCol w="614520"/>
                <a:gridCol w="890640"/>
                <a:gridCol w="2906640"/>
                <a:gridCol w="798480"/>
                <a:gridCol w="895320"/>
                <a:gridCol w="275760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N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DRAFT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2007 PPL Impa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hancement to FasTrak Too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 – completes in 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 C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ce Oriented Architecture (SeeBeyond Replacemen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 – completes in 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 C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point Services - Phase I  (SeeBeyond Replacemen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_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 – completed in 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 C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ail Business Processes (SeeBeyond Replacemen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_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 – completes in 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 C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point Services - Phase II (SeeBeyond Replacemen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_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 – completes in 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 C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X SET 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 – completed in 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 C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 SIR Enhanc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 – completes in 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Outage Evaluation and Resolution, Ph. I &amp; 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6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 – completes in 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formance Measures Report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7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over into 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CT / Market input need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s and Conditions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8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y-over into 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 input needed – possible merge with Mass Trans and/or TX SET 2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 Cut Line </a:t>
                      </a:r>
                      <a:r>
                        <a:rPr b="1" i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Initial placement based on consolidated ERCOT PPL; RO allocation = $6.75M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 C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A Extend Footprint (expansion of TIBCO integratio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10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y-over into 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der review by ERCOT as potential individual projec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RO C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Enhance Digital Certificate Progr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60013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X-fer to 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 – IO C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 Capability Range </a:t>
                      </a:r>
                      <a:r>
                        <a:rPr b="1" i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Line placement varies based on Forecasted Spend for Portfol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 C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I ID Account Table Spl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15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y-over into 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rt in 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 C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.com Secured Are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77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ti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 – completes in 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 C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Siebel Tran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59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ti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y-over into 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 C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TCH Tran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60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ti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y-over into 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 C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EAI Tran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61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y-over into 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 C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S Transition to ED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88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y-over into 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R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Calculation of Losses for Settl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60068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X-fer to M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 – MO C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s Customer Tran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38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ti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y-over into 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144360" y="6545160"/>
            <a:ext cx="8169480" cy="2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lnSpc>
                <a:spcPct val="85000"/>
              </a:lnSpc>
              <a:spcBef>
                <a:spcPts val="337"/>
              </a:spcBef>
              <a:buClr>
                <a:srgbClr val="008080"/>
              </a:buClr>
              <a:buSzPct val="16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LEASE NOTE: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Analysis and 2007 PPL subject to change via additional PUCT, Market, &amp; ERCOT input gathered during May-July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E8080-F69D-4C3E-BF8A-9223CDDF8412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82720" y="1257480"/>
            <a:ext cx="767376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am D. Martin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gr, Market Operations 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512) 248-38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amartinez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8160" y="131760"/>
            <a:ext cx="71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Questions / Contac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4DC03-3CB9-40D2-8D55-F781639834F0}" type="slidenum">
              <a:t>4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Adam Martinez</dc:creator>
  <dc:description/>
  <dc:language>en-US</dc:language>
  <cp:lastModifiedBy>amartinez</cp:lastModifiedBy>
  <dcterms:modified xsi:type="dcterms:W3CDTF">2006-05-10T15:04:12Z</dcterms:modified>
  <cp:revision>133</cp:revision>
  <dc:subject/>
  <dc:title>Slide 1</dc:title>
</cp:coreProperties>
</file>